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es reforms--glasnost and perestro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749-7008-4249-9DEB-A05F03EA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210-47FE-4E62-A371-71B1A6C0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FD9-2DF0-4CBF-8713-E785E382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CA5-853E-42DE-8DA4-E55E06FA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CF1-3A80-4A12-A161-CA5FDD2D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D7A-F266-4034-BD31-E50A40A0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D89-17D3-442A-9FDB-D6CC1212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7A4-98A4-456B-8A46-4AEC37C3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715-B81D-4A76-9864-BB83B5B9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C16-BC20-472B-88B8-235FC044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26F-7924-4EEC-8264-01AE53BF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3BA-11F3-4B78-B59D-AB26FA85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5EFA-6E10-446B-9EB9-1876BD8FA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981600" y="3429000"/>
            <a:ext cx="1482480" cy="2200320"/>
          </a:xfrm>
          <a:prstGeom prst="rect">
            <a:avLst/>
          </a:prstGeom>
          <a:ln w="0">
            <a:noFill/>
          </a:ln>
        </p:spPr>
      </p:pic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47640" y="4002120"/>
            <a:ext cx="2019240" cy="2550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49800" y="4191120"/>
            <a:ext cx="3092760" cy="235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3124080" y="4656240"/>
            <a:ext cx="2362320" cy="143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6880320" y="1500120"/>
            <a:ext cx="2111400" cy="258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76960" y="5057640"/>
            <a:ext cx="2371680" cy="17622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199120" y="4352760"/>
            <a:ext cx="3487680" cy="2300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09560" y="2895480"/>
            <a:ext cx="2637000" cy="3305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s reforms-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lasn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estro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886360" y="4762440"/>
            <a:ext cx="208620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629400" y="4232160"/>
            <a:ext cx="2205000" cy="2502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57680" y="5334120"/>
            <a:ext cx="2214720" cy="1461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017800" y="1981080"/>
            <a:ext cx="5099040" cy="41054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72280" y="5334120"/>
            <a:ext cx="2095200" cy="13968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38960" y="4314960"/>
            <a:ext cx="2200320" cy="141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619360" y="3962520"/>
            <a:ext cx="3181320" cy="244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590400" y="440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33200" y="4129200"/>
            <a:ext cx="4753080" cy="2705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6172200" y="4667400"/>
            <a:ext cx="2733840" cy="17809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796080" y="4776840"/>
            <a:ext cx="22478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695680" y="4419720"/>
            <a:ext cx="2371680" cy="1666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862440" y="5019840"/>
            <a:ext cx="2309760" cy="15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7569360" y="4419720"/>
            <a:ext cx="1573200" cy="243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530360" y="1981080"/>
            <a:ext cx="6073920" cy="4105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01:03:13Z</dcterms:created>
  <dc:creator>Jeff</dc:creator>
  <dc:description/>
  <dc:language>en-US</dc:language>
  <cp:lastModifiedBy>Legion</cp:lastModifiedBy>
  <dcterms:modified xsi:type="dcterms:W3CDTF">2017-07-05T08:45:55Z</dcterms:modified>
  <cp:revision>22</cp:revision>
  <dc:subject/>
  <dc:title>Communism and the Cold War</dc:title>
</cp:coreProperties>
</file>